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1A0-D1A4-49D6-B153-D9CEB818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075-FB37-4042-A755-198FFA9E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A05-64FD-4B86-A14E-2C8A4DAB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4665-2A70-4E82-A431-FD779028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DC72-1459-438C-A2A6-DF16F9FC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1046-2027-4C41-B435-E632BA10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3ECD-6D27-4ABE-B28A-80025D1E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7865-ED03-4C69-A00B-450D8BDB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CCB3-4032-4D55-831C-4A3DC3E1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0FEA-E3C1-49B0-BCF0-E2FB3F13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FD1C-3670-4905-A9A6-203A96A0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0149-4277-42EB-8124-C62DB978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4B1B-5B3E-46BE-A2EB-9832782F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07D1-0DE2-43F6-AF51-A75E3560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1F66-76A5-4F62-A976-A07C248D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1B97-79A9-4D3A-B2FA-A5D8F51A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DD43-C494-4221-8C0C-05CA3651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B325-6DF3-4818-A456-A221E848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8350-E1F2-439A-A61D-CB6A0434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204-6548-4E8D-ABEA-45966C1C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899-1654-442C-B01C-C46630B4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EF4-B6A3-4B57-80C5-D6F65E65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91A-A1ED-440B-B4CE-57E75929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D41-24D7-4C4C-903C-F4E2E8FD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B24D-1C97-47CD-8424-7E9A08B6F04A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1DDA-6731-4FEA-99A3-8A5C6A5FEC09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berbully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Tackle Legal Twists and Turns of Cyber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school districts handle cyberbullying off school district gr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 the door to legal issues that school leaders do not know how to deal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leaders have little guidance and there are no policies in place to support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cases have gone to court with different outcom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uld ignore the issue but this sends the wrong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hensive about outcome if they go to cou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ates do have laws addressing cyberbull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istricts adopting anti-cyber policies an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unding to help support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ommen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policies before incident oc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 on-going education to employees, parents, and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00:43:02Z</dcterms:created>
  <dc:creator>julie/balcer</dc:creator>
  <dc:description/>
  <dc:language>en-US</dc:language>
  <cp:lastModifiedBy>julie/balcer</cp:lastModifiedBy>
  <dcterms:modified xsi:type="dcterms:W3CDTF">2012-06-07T00:59:36Z</dcterms:modified>
  <cp:revision>1</cp:revision>
  <dc:subject/>
  <dc:title>Cyberbullying</dc:title>
</cp:coreProperties>
</file>